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CEE3-677E-4B2D-9DC7-1044CC804B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C9C-43F5-4A8E-BBFE-A4393B78BB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0FA-9E37-4F51-A414-078A55C968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867-1EF7-4BDF-AAEB-47837C9291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2B2C-CC91-4809-8137-33A6EAAB51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C24-1D2B-4F77-8895-02C2B0293A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27A-3933-46ED-B72E-AE130866CA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359-35E1-446F-8753-BB09061737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FBA-6D3E-47FA-BA3C-E42734D8CC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B0A8-10CC-42EF-99D7-DA260E958A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20B0-012D-4136-9D95-E971497546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D99-4CE0-43CB-9BF4-CD0DDD936B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847-7C59-46C4-83A4-02351171E7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2B0-CB5F-4BDE-B49C-D307C33AB0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0B98-2BBD-4BA9-B257-C701A9351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CFE-F4F7-410F-A738-5A3AFC4B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BD5-FB24-4C20-95C7-C2B85CE3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326-9230-4C4B-B9E0-890678C4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8E4-7343-443F-8BBC-92795517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1E9-DDFE-4CB5-9F1C-D460F041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D98-E21A-4F63-B635-DE9A57B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D04F-6182-4601-BEC1-31549FF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46E-DC11-4659-9E09-B973553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B437-2878-4E31-A6C1-13CD584B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608D-F065-4971-9807-66523A7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A1C3-28EA-4BDE-9B4D-ABC1D34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119-DDC1-476D-93E1-25628C2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4B7-48AB-4D78-8E97-944BC11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EA7-22D8-4DBC-8737-B925AAF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EF1E-9934-4722-8A77-CB77683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BE56-37C7-4EA5-B3A4-8AFEC32E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850B-38D2-4350-844C-8AF48D19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B14C-EB3D-41C6-B99D-D5B0B0CD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7F8D-3CF0-4A75-A37E-DA176DE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CC6B-B0FC-4EE5-AF6D-42E4489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5FB7-381E-4FAF-8327-20481C4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E069-29D9-40A6-AFEB-67CA7E77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2F8-5D89-4114-B16F-5D745246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4ED0-9A46-41D6-88FE-5523B536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B9D5-6795-4B13-996B-F4E05D9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21B0-0B4E-4CA3-BCDA-0C99AD51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7027-C17A-409A-884D-A63D84A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318A-D17A-40B7-82E4-95CFEE6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D202-2A36-483F-B675-555FE37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7822-28F4-4457-BB1E-D92F1DB6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321C-CB6F-4127-9C21-EFBB5C50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0755-D05A-4B4F-949E-C05026C9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7981-82A7-45FF-88B0-258887C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125-8F42-4DA7-AD42-2899552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A07B-54A5-4801-A87A-50CE872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2F70-B693-424F-A9B4-3D9BB6C9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7EE6-9611-438C-83A8-47C50DF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77E2-0727-47C8-BE9F-F94D46E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F097-0945-4638-AFE7-02700F8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3F59-FAC0-4936-95F2-C410B79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A146-4CAC-44B1-ABB7-D0E8868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562A-A20A-40CB-AFB9-ED2EB4B5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38C4-3258-4542-9815-9A784329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E375-B4C9-4653-8AD3-24512431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109-C20D-4AF9-BCF5-A9ED95C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E689-FE5F-4D37-B5A0-BF492735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0124-51BF-4192-A562-42181F1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F316-A8A8-40A4-81A0-AC37ABF8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01FC-5EC8-4828-B8DC-09012CD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7F51-2961-4105-8B37-FCBC135C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CE981-C369-4FA1-8A00-C56D6FD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32E1-E6F2-470F-97AE-C15DAA4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FB50-A73D-43DF-8C32-31C8721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7027-4B56-4DB2-9DBE-F7BC20B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0051-920E-40FB-931B-EB5F537C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D59-9B01-41EC-B826-227C658F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43C0-C596-464D-9115-A2D72B3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B9D-BC1E-49BC-86A1-15E12AD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21B-D1F8-4B11-8617-F7DEF84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438-4FD2-4F27-AA80-335BE0A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6C2-CFDB-4BF1-909B-FEE548EE2A1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2A3A-DC58-4C0E-A86C-10B933F984E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DC35-5F17-4797-9A24-24AAB70D4CD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7871-0E12-4D71-95B6-9B91DFFD505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D1A2-B8B2-42E4-98C2-AD9933E74C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14280" y="43574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696464"/>
                </a:solidFill>
                <a:latin typeface="Perpetua"/>
                <a:cs typeface="Times New Roman"/>
              </a:rPr>
              <a:t>د عبد اللطيف الفاربي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مبادئ منهجية في الكتابة التربو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أساليب الكتاب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3840" y="144792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400" spc="-1" strike="noStrike">
                <a:solidFill>
                  <a:srgbClr val="9e3611"/>
                </a:solidFill>
                <a:latin typeface="Sakkal Majalla"/>
                <a:cs typeface="Sakkal Majalla"/>
              </a:rPr>
              <a:t>التعريف بمفهوم</a:t>
            </a:r>
            <a:r>
              <a:rPr b="0" lang="ar-MA" sz="4400" spc="-1" strike="noStrike">
                <a:solidFill>
                  <a:srgbClr val="9e3611"/>
                </a:solidFill>
                <a:latin typeface="Sakkal Majalla"/>
                <a:ea typeface="Sakkal Majalla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سلوب التعريف من أساليب التفسير التي يقوم على توضيح مفاهيم أو مبادئ باللجوء إلى تعريفها، باعتبارها معان تم التوافق حولها ويمكن أن نعلم التلاميذ ما يلي :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3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لتعريف بمعنى كلمة معينة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3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التعريف بمفهوم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300" spc="-1" strike="noStrike">
                <a:solidFill>
                  <a:srgbClr val="0070c0"/>
                </a:solidFill>
                <a:latin typeface="Sakkal Majalla"/>
                <a:cs typeface="Sakkal Majalla"/>
              </a:rPr>
              <a:t>التعريف بالشعار</a:t>
            </a:r>
            <a:r>
              <a:rPr b="1" lang="ar-MA" sz="33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أساليب الكتاب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800" spc="-1" strike="noStrike">
                <a:solidFill>
                  <a:srgbClr val="9e3611"/>
                </a:solidFill>
                <a:latin typeface="Sakkal Majalla"/>
                <a:cs typeface="Sakkal Majalla"/>
              </a:rPr>
              <a:t>المقارنة</a:t>
            </a:r>
            <a:r>
              <a:rPr b="1" lang="ar-M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وظف المقارنة أو الموازنة أسلوبا للحجاج والدفاع عن وجهة نظر معينة، وتحقق المقارنة ثلاثة أغراض أساسية، وهي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8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لبرهنة على أن هناك موقفا أو بديلا أفضل من غيره وأحسن (المفاضلة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8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إبراز نقط الخلاف حول أمر من الأمور كالمقارنة بين أرقام إحصائية</a:t>
            </a:r>
            <a:r>
              <a:rPr b="1" lang="ar-MA" sz="28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800" spc="-1" strike="noStrike">
                <a:solidFill>
                  <a:srgbClr val="0070c0"/>
                </a:solidFill>
                <a:latin typeface="Sakkal Majalla"/>
                <a:cs typeface="Sakkal Majalla"/>
              </a:rPr>
              <a:t>إظهار التماثل الموجود بين وضعيتين مختلفتين كأن نبين أن أمرا مطابقا آخر للدفاع عن رأي حوله</a:t>
            </a:r>
            <a:r>
              <a:rPr b="1" lang="ar-MA" sz="2400" spc="-1" strike="noStrike">
                <a:solidFill>
                  <a:srgbClr val="0070c0"/>
                </a:solidFill>
                <a:latin typeface="Sakkal Majalla"/>
                <a:ea typeface="Sakkal Majall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أساليب الكتاب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7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التماثل</a:t>
            </a:r>
            <a:r>
              <a:rPr b="1" lang="ar-MA" sz="3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: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 rtl="1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التماثل أسلوب يقوم على إيجاد تشابهه بين شيء وآخر في وصفة معينة، كأن تماثل بين تربية الطفل وبين شبيه لها، أو نشبه من اتخذ موقفا معينا بشيء يماثله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7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الوصف</a:t>
            </a:r>
            <a:r>
              <a:rPr b="1" lang="ar-MA" sz="3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</a:t>
            </a:r>
            <a:r>
              <a:rPr b="1" lang="ar-MA" sz="37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والسرد :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 rtl="1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ستعمل الوصف أو السرد كأداتين للشرح والتفسير، ويتصل الوصف برصد خصائص موقف أو وضعية بينما يتعلق السرد بحكي وقائع للدفاع عن وجهة نظر معينة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أساليب الكتاب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1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إصدار الحكم :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1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   مهارة من المهارات التعبيرية العليا تعتمد على خطوات منهجية استقرائية أو استنتاجية تعتمد على ما يلي :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1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معطى حكم موضوعيا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1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وظيف براهين وأدلة لإصدار حكم معين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1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ستعمال المعايير التي تمكن من نقد معطى والحكم عليه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أساليب الكتاب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وسيع : عن طريق الشرح أو التعليق أو الاستشهاد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ناغم والربط 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811080" indent="-49212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بين الفقرات : السؤال، التخلص، توضيح الهدف ......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1" marL="811080" indent="-49212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بين الجمل : أدوات الربط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1" marL="811080" indent="-4921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ختزال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أسس الكتابة التربو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72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عرفة التربوية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7200" spc="-1" strike="noStrike">
                <a:solidFill>
                  <a:srgbClr val="000000"/>
                </a:solidFill>
                <a:latin typeface="Perpetua"/>
                <a:ea typeface="Times New Roman"/>
              </a:rPr>
              <a:t> الآليات المنهجية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72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أساليب الكتابية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معرفة التربوية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جالات المعرفية التربوية من علم نفس، وبيداغوجيا، وسوسيولوجيا، وديداكتيك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مستوى المفاهيم: الاصطلاح التربوي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مستوى الطرق والاتجاهات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مستوى القضايا والإشكالات التربوية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مجالات علوم التربية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2" name="Espace réservé du contenu 3" descr=""/>
          <p:cNvPicPr/>
          <p:nvPr/>
        </p:nvPicPr>
        <p:blipFill>
          <a:blip r:embed="rId1"/>
          <a:stretch/>
        </p:blipFill>
        <p:spPr>
          <a:xfrm>
            <a:off x="360360" y="1042920"/>
            <a:ext cx="83264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مثلث الدياكتيك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4" name="Rectangle 3" descr=""/>
          <p:cNvPicPr/>
          <p:nvPr/>
        </p:nvPicPr>
        <p:blipFill>
          <a:blip r:embed="rId1"/>
          <a:stretch/>
        </p:blipFill>
        <p:spPr>
          <a:xfrm>
            <a:off x="3139920" y="1378080"/>
            <a:ext cx="2657520" cy="153648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4" descr=""/>
          <p:cNvPicPr/>
          <p:nvPr/>
        </p:nvPicPr>
        <p:blipFill>
          <a:blip r:embed="rId2"/>
          <a:stretch/>
        </p:blipFill>
        <p:spPr>
          <a:xfrm>
            <a:off x="6711840" y="4383000"/>
            <a:ext cx="2273400" cy="153036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5" descr=""/>
          <p:cNvPicPr/>
          <p:nvPr/>
        </p:nvPicPr>
        <p:blipFill>
          <a:blip r:embed="rId3"/>
          <a:stretch/>
        </p:blipFill>
        <p:spPr>
          <a:xfrm>
            <a:off x="139680" y="4383000"/>
            <a:ext cx="2139840" cy="1530360"/>
          </a:xfrm>
          <a:prstGeom prst="rect">
            <a:avLst/>
          </a:prstGeom>
          <a:ln w="0">
            <a:noFill/>
          </a:ln>
        </p:spPr>
      </p:pic>
      <p:sp>
        <p:nvSpPr>
          <p:cNvPr id="247" name="Organigramme : Extraire 7"/>
          <p:cNvSpPr/>
          <p:nvPr/>
        </p:nvSpPr>
        <p:spPr>
          <a:xfrm>
            <a:off x="2286000" y="2500200"/>
            <a:ext cx="4714920" cy="2786040"/>
          </a:xfrm>
          <a:prstGeom prst="flowChartExtra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0"/>
          <p:cNvSpPr/>
          <p:nvPr/>
        </p:nvSpPr>
        <p:spPr>
          <a:xfrm>
            <a:off x="6500880" y="307188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بيداغوج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1"/>
          <p:cNvSpPr/>
          <p:nvPr/>
        </p:nvSpPr>
        <p:spPr>
          <a:xfrm>
            <a:off x="1643040" y="300024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ياكت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12"/>
          <p:cNvSpPr/>
          <p:nvPr/>
        </p:nvSpPr>
        <p:spPr>
          <a:xfrm>
            <a:off x="3571920" y="5643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تع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مثلث الدياكتيك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tretch/>
        </p:blipFill>
        <p:spPr>
          <a:xfrm>
            <a:off x="3413160" y="457200"/>
            <a:ext cx="2658960" cy="15303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4" descr=""/>
          <p:cNvPicPr/>
          <p:nvPr/>
        </p:nvPicPr>
        <p:blipFill>
          <a:blip r:embed="rId2"/>
          <a:stretch/>
        </p:blipFill>
        <p:spPr>
          <a:xfrm>
            <a:off x="6583320" y="3578400"/>
            <a:ext cx="2279520" cy="153648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5" descr=""/>
          <p:cNvPicPr/>
          <p:nvPr/>
        </p:nvPicPr>
        <p:blipFill>
          <a:blip r:embed="rId3"/>
          <a:stretch/>
        </p:blipFill>
        <p:spPr>
          <a:xfrm>
            <a:off x="444600" y="3670200"/>
            <a:ext cx="2133360" cy="1530360"/>
          </a:xfrm>
          <a:prstGeom prst="rect">
            <a:avLst/>
          </a:prstGeom>
          <a:ln w="0">
            <a:noFill/>
          </a:ln>
        </p:spPr>
      </p:pic>
      <p:sp>
        <p:nvSpPr>
          <p:cNvPr id="255" name="Organigramme : Extraire 7"/>
          <p:cNvSpPr/>
          <p:nvPr/>
        </p:nvSpPr>
        <p:spPr>
          <a:xfrm>
            <a:off x="2222640" y="1623960"/>
            <a:ext cx="4627440" cy="2681280"/>
          </a:xfrm>
          <a:prstGeom prst="flowChartExtra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0"/>
          <p:cNvSpPr/>
          <p:nvPr/>
        </p:nvSpPr>
        <p:spPr>
          <a:xfrm>
            <a:off x="7572240" y="1495440"/>
            <a:ext cx="1571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بيداغوج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م النفس الاجتم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1"/>
          <p:cNvSpPr/>
          <p:nvPr/>
        </p:nvSpPr>
        <p:spPr>
          <a:xfrm>
            <a:off x="128520" y="1488960"/>
            <a:ext cx="1571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يداكت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إبستمولوج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12"/>
          <p:cNvSpPr/>
          <p:nvPr/>
        </p:nvSpPr>
        <p:spPr>
          <a:xfrm>
            <a:off x="1413000" y="5641920"/>
            <a:ext cx="615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تعلم (نظريات التعلم) علم الاجتماعي المدرسة والتر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1"/>
          <p:cNvSpPr/>
          <p:nvPr/>
        </p:nvSpPr>
        <p:spPr>
          <a:xfrm>
            <a:off x="5545080" y="1989000"/>
            <a:ext cx="207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طرق التعل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دينامية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التواصل الترب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11"/>
          <p:cNvSpPr/>
          <p:nvPr/>
        </p:nvSpPr>
        <p:spPr>
          <a:xfrm>
            <a:off x="1695600" y="2087640"/>
            <a:ext cx="207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معالجة الم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منهجية الم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استراتيجيات التعل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1"/>
          <p:cNvSpPr/>
          <p:nvPr/>
        </p:nvSpPr>
        <p:spPr>
          <a:xfrm>
            <a:off x="2739960" y="439416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الذكاء والتعلم – الذكاءات المتعد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النمو والتع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c00000"/>
                </a:solidFill>
                <a:latin typeface="Perpetua"/>
                <a:cs typeface="Times New Roman"/>
              </a:rPr>
              <a:t>استرتيجيات التعلم (أساليب التعل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آليات المنهجية</a:t>
            </a: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نماط السؤال 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سؤال وحيد الدلالة، وحدة معنوية واحدة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سؤال ثنائي الدلالة؛ وحدتان معنويتان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وضوع يعتمد على المقارنة؛ بين ظاهرتين-بين اتجاهين-..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57720" indent="-182880" algn="r" rtl="1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سؤال على المحاجة : أطروحة – نقيض- استنتاج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آليات المنهجية</a:t>
            </a: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لتقديم</a:t>
            </a:r>
            <a:r>
              <a:rPr b="1" lang="ar-M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ستكشاف السؤال : المعطى – المطلوب – الشرو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شرح الإشكال : مدخل المفهوم، مدخل الحالة، مدخل المشكل، مدخل الاتجاه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أطير الموضوع : الاتجاه، المجال،السيا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طرح الأسئلة أو التصريح بالأهداف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37760" indent="-182880" algn="r" rtl="1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عالجة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تصميم المواضيع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85840" y="1447920"/>
          <a:ext cx="8400960" cy="4695840"/>
        </p:xfrm>
        <a:graphic>
          <a:graphicData uri="http://schemas.openxmlformats.org/drawingml/2006/table">
            <a:tbl>
              <a:tblPr/>
              <a:tblGrid>
                <a:gridCol w="2800440"/>
                <a:gridCol w="2800080"/>
                <a:gridCol w="280044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ffffff"/>
                          </a:solidFill>
                          <a:latin typeface="Times New Roman"/>
                          <a:cs typeface="Sakkal Majalla"/>
                        </a:rPr>
                        <a:t>الموضوع / الأطروح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ffffff"/>
                          </a:solidFill>
                          <a:latin typeface="Times New Roman"/>
                          <a:cs typeface="Sakkal Majalla"/>
                        </a:rPr>
                        <a:t>الموضوع / الحا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ffffff"/>
                          </a:solidFill>
                          <a:latin typeface="Times New Roman"/>
                          <a:cs typeface="Sakkal Majalla"/>
                        </a:rPr>
                        <a:t>الموضوع / الإشكالي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9381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القضي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الأطروح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الأطروحة المضا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الاستنتا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تقديم الحا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تحليل الحالة :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لمظاه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الأسبا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 النتائ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Sakkal Majalla"/>
                        </a:rPr>
                        <a:t>- الحلول المقترحة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طرح الإشكالي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فرضي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فحص الفرضي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Sakkal Majalla"/>
                        </a:rPr>
                        <a:t>استخلاص الحلو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24:37Z</dcterms:created>
  <dc:creator>PhoenixUser PhoenixUser</dc:creator>
  <dc:description/>
  <dc:language>en-US</dc:language>
  <cp:lastModifiedBy>ordino</cp:lastModifiedBy>
  <dcterms:modified xsi:type="dcterms:W3CDTF">2017-09-12T08:32:41Z</dcterms:modified>
  <cp:revision>14</cp:revision>
  <dc:subject/>
  <dc:title>مبادئ منهجية في الكتابة التربوية</dc:title>
</cp:coreProperties>
</file>